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94A2-79FA-4351-9A59-23167394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4005-2FF0-47E2-9DF5-F6C3EC6C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biopic/yelcac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02DF-C269-4DDD-AC1C-54F6DB0D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555-5CE3-4B4F-B06C-B427CB7F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7CD3-D772-4070-97D0-8298C037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43A2-7665-4650-AD63-32632F3E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E684-DB66-4EBD-9261-B6948CC9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DA37-0517-478D-9099-670D3CAA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644-3073-4C5C-87E4-372B191B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77A-D317-4837-AE48-92091E09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7D47-83A8-4A8B-B4F7-3BDC271F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11D-3EF3-467A-A25E-41C70566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391-F1F8-43ED-BD24-527407F28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20D-B838-41FC-896A-AD01DDC3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97C-E489-4C96-8B13-7F07BAFC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2A9-41A4-4B93-8BD4-44A685C4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FAB-6DBE-4FD7-B12C-100D9ADA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7DA-A8A5-43E1-A6AE-3BB729B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EE7-2B18-45F7-B959-EEB26323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3FA-1B5A-45A1-AE9F-E2D19ED9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D34-97CC-4E58-A73E-001BCCD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87E-6F6E-4B3A-9369-32B76EC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C9E-2D9E-4A5E-BA1B-1A0D2D2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B58-AB96-4145-9CF9-34E492AB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E65-8597-4C96-AE1C-8A7CC23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0E7-8DA4-4069-B67D-934F1FC8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734-65CB-412C-8600-880D60A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E7F-7A7C-4111-B62B-14F440B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3A3-5536-48FE-A2BD-5C664348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lc4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62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rghum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orn ears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ugar Cane Field 1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EARL-mILLET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alcam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ade_plant01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rickly-pear-cactus-1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neapple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ram's_head_orchid_plant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n_emmission_co2_smoke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K+_opne&amp;closed-LG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h20f3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Simplified_photorespiration_diagram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5-10-27T01:15:34Z</dcterms:modified>
  <cp:revision>127</cp:revision>
  <dc:subject/>
  <dc:title>Photosynthesis</dc:title>
</cp:coreProperties>
</file>